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D6B-A08C-4EA9-A19E-EE74C835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771-BF7A-49C3-A9FD-FBFE0B8C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1E894-E647-4E7E-9C2C-C08318A7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06F7E-8A11-43A9-A3B8-69F9C149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081C1-3550-4891-B3D4-6FD43274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D3BF7-79FB-471B-B3EF-B5AA0656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E9B1C-E826-4EC4-9BC1-12AF6B6C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6E566-9156-4B6E-836C-D60F658A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4D4A6-AECC-401D-B628-FAC812A1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DD7B0-652B-4F3D-8B86-CEEC857F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A1392-F558-4F3A-9C80-EA4FB4BB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18A94-9298-4252-8198-ABA127E8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213-E0C4-494F-8916-F7420FA2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B0173-7C5C-4DFB-8FC7-5089821F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57E25-6DAC-44D7-9BA0-B3D0D63B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7B447-4227-4BC2-8890-055C29D3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74397-713E-4165-BFA4-5F8792F0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6F738-9B23-419E-BDA6-4176232B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CC597-D32D-49AA-8659-7CC9DA05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CF2BD-3984-407F-91AA-EEEB580C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C85CD-B398-456E-BA66-046B6355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8ED02-48BF-4583-AB63-AE7B3D38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FC04A-D0A2-4B45-B987-4AEBA38E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4C2-3D8A-41FD-B9B3-D17B37E4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6839B-552E-4E17-A749-07982241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72B55-CC7A-47ED-B606-7B302872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FA596-BE0E-4602-85A7-CE4EDEAA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486FC-6BD6-4971-8A28-B384E81F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D74B3-39C0-4F17-AC26-ECAE264C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3D72B-2798-4055-A188-78539366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3391B-8CC2-4FDA-B820-0591DC34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87F47-58CF-4FFC-BA56-D063A4EF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22F2F-88D9-4282-A26C-4F19A83D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A2F85-C53B-4CA1-B869-4CFE387E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EEF3-82C0-4762-B768-CE266E0B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49475-B422-4E6D-A6FE-147244C4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0FD2B-4C10-4E1C-8210-BE6F929E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8701A-17B9-42AD-B1C0-1D9C478C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60F8F-8261-4B91-9EEA-8E746DE9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32E0C-639B-4B46-A090-686EC864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2954E-A199-4981-9D29-423D748F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6F22A-80A5-4F75-ABBF-B4A32D40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CE73B-3B5D-4199-8826-C2AA4729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81AC8-DD6A-4ECC-B5B8-9A2F4DFB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CAB4A-1A56-4C6B-8CEE-3F75C46E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72C5-E85E-466D-9E87-BA549BF6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BC30A-6D2F-44C1-B298-F58C6190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C3188-758E-4399-B2BC-D3583707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79F8E-0010-4983-B334-F339B294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850C7-0811-489F-BCD2-E5AFE957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CEDB8-C402-4DBC-99E9-1D16BAFF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77C22-12DD-4D44-8D29-E161E6C6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97EDA-F9DA-4E82-8E3C-6900AECE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50AB9-0B0F-474E-B0DE-1BF669DD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099EB-975B-4679-BB63-0C33941B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F6265-E2DD-4DC8-B427-F94A093E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939E-964B-45F7-A7EC-F56EF847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052F2-C8F5-4239-A5BE-9D7FBA9D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70AC8-30E6-470B-B391-F998FB1D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C4013-56E8-44C6-BBCD-E678BAAF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1BD04-42AF-469A-B257-63B4A0DB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932B6-A409-4CA1-A275-3E13329A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DA45C-1F54-416C-A4D9-0E647D1A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99CC4-F15D-426F-ADD0-37410322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9DAAD-E9CE-4B6E-997D-1BC2A758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4B6F9-61DF-45BA-BE21-52AFD440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14107-DB6D-49DB-AAFC-251782B0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18CE-64C8-41DF-AD27-9A93BB01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EE16D-99E3-4BBC-85E4-0243AF34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B3974-1F5C-4733-B3BA-5E57EE06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8563F-7AB0-4086-B2BB-9EF25518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18E06-08E8-4160-AF61-7D727729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87F7B1-CCF2-4063-A525-FE54DAAD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284CF-2B2C-4BE7-824A-6E494BB8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ACA8A-0903-48A5-85DF-DF63483D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AC4DA-F11D-4944-97F0-A80E6261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44155-709E-4DB4-896F-472B3F0E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A290A1-C410-4935-BA23-7AF9B1DE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5B4D-11A5-4768-8485-E73C1A28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09462D-47C4-460D-AADC-A0512705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683027-2542-46D1-992D-E795C3C2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A2ECA-CE85-41DB-AEFA-DC936C09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83D7A3-F351-4B15-98BC-C977E32D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A36A1-A4FC-4A25-AAED-DE6C7BEB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2CBF92-2D8E-42A4-A21D-38C8FC18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20A117-498A-4C69-88F7-FD4DA7BC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C9F80-3DFD-44BC-BF79-35723509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11787-BA92-40BE-BBAD-871CEFE8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35053-EDA2-4C7D-B7F0-8EB0E440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ED10-20C4-4AF3-AA66-37ADADE5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B2F235-CFD1-4807-94AA-E34B4BDE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3E1C0-A57F-401B-B6E4-BEC70E82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2C07A7-23FC-44F6-8C6E-0E64036B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279E62-41FA-4A2E-8F0A-1DE060FD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126A20-9249-4CF8-A295-9F35704E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745F69-BD97-4C3B-9FDB-570802B1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8B0150-FE22-4C49-8540-E9F2EDDF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E8715F-3D50-4951-B965-A296D0EF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157FA3-EAFB-466B-A0FA-7C5A8EE8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633B42-C9BC-42F6-BB39-463B58B2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85AD-54EC-4FCF-A169-A423B30B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A0C240-9FAF-44E7-9449-094446F9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D8726-0733-40D9-8DDC-2A3A842A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F7090A-02F5-41CD-8B49-55547E21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4763C6-A8E2-480B-A49A-127E2450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08FD9D-2316-4357-A2B9-68D43D85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D0672F-EBCB-4CE9-A6F4-35D06C2C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7ACBE9-EBFA-4350-BEAB-B897FDED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A954F-A086-4648-94D9-3C6D63D2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17028E-A05C-431A-9B1E-6177EA87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A27F3-6A5C-44B8-A494-3B2E9DD2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A5F-344D-446A-93F4-AA908F3A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BDC9-21E6-4D55-A395-7D2E2890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76301A-A4EA-411D-9382-1E59640D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0C2078-3F19-4DAE-8B2F-9A9B569D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903B40-A16C-4D41-BD6C-E74F5044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F98431-CB43-4747-98CA-644552A3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AEDB7-0602-4F10-A189-0E9D094D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FF894-BC38-4873-A7CD-359A9B0C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CFD163-E990-44FE-BBFE-62AAD551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DEFBF-2412-41BB-BA40-FC5E5814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BF4C62-6422-414F-912B-F5E76D07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EC07D-8D4A-4602-B6B6-01F854D4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51DC-3327-4ABA-80FB-154B045A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80825F-F4BD-4EE6-878D-FF3988F2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90ACF5-2237-4458-8AC0-8FF07B0B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1C194A-3A87-4F79-BC28-AE2C8BFF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D08D8C-9AA4-411B-83EC-54579548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B9CEEB-6A5A-4622-9ECF-AFC02FE3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7D001-0AD9-48E8-A3F7-008F0DD6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64F7F5-E451-4B24-8763-87AFF128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7FDFB2-1A3A-4623-8BED-1560CF4B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644CF6-790B-4EBB-AF16-C04DD12A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6A0521-0F18-44CC-AC6D-93E94F45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FD6E-4B38-4073-82A8-8A332366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E9A839-22D2-478F-9ECC-3EC96384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229A51-FAC0-4C6F-99A6-7D897208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5C91CA-5D72-47E6-BF0E-8F048DF4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5B789A-2E00-423A-AAAF-92C76DF1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089883-4903-4372-803E-DD1E29A3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27B98C-AB02-4C2C-A1C2-518408CB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C0410B-B155-4987-8E84-0FE6A978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19F7F3-B4DA-4FA3-923D-0619932D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C65223-31C6-4686-BEB5-07C22C20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1992A0-CFD7-4CBB-8482-95F9168F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7889-076A-479D-AC56-B47A09A0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A73407-41AE-4214-8189-1412439B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07C070-A665-4E91-B300-065FB6AC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9664C8-879A-494C-8A10-39A3F444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88471D-5A16-4D07-AC11-B1F83E27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96281C-57C6-43A8-9348-E9EE7C80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914833-C82B-4C13-95A2-DF0EB857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744B57-65D2-420D-B8B0-F94D0FC7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0C05A0-E838-46D4-AB12-7CFD5676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FD2089-A8F9-492E-96EB-A6E86A3E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CF4D20-2E7B-4131-AB5E-4677CA31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1233-951B-4050-B54A-D03846DB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6F9349-DF2D-476A-9EF7-9AB8B8AC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7042FA-54A8-4125-8A97-54E448FF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EB9736-EE64-4523-81D9-5856AA9F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25D196-06F9-4DBE-B156-A8A85EE6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70E9AF-7D0E-4B55-9538-DB5804CF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6C3C86-1889-459B-BED5-89EE6FD2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86469F-FCB1-4018-8E24-C2D0921B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A26552-F06E-4DDC-B42F-758CE40E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C57C98-ECBF-4B20-ADAA-3A7F414C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D2F248-BC40-4928-88B9-606B5038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4069F-B569-4D5F-90A6-D267F85D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921215-681E-4295-BDDE-E187F9D6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3BE84F-876C-407F-8B10-41AEE9BE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9CE67A-615E-4E5E-9A75-4AC60062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21FE0-BA92-45DE-81BB-7709D880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A6FB-D010-45D6-9921-1B9C526E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96BF8-3FC3-4A43-ABD7-3D8E4C31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D5451-1756-43C8-B520-63D4DA83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644-335D-40CA-A699-46A8F0B0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2006-DB82-486A-92D6-9781A47C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CA194-58DD-42B6-8CE5-8136011E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67E89-D06D-48B3-BE0B-D1EA02B5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6BDF5-CB1B-4D84-8249-E6B30EB7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66659-3786-401B-AB48-014B2EF6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36A69-1286-4A8C-A9F1-C0A61C7F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4EB10-8C54-4259-AB50-6A991B89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0DAD4-BE23-48E2-AF38-450C2480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68E28-42A9-42F1-8B70-6A6DAC0C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5C9CB-E75E-46B3-9A8A-0049B8CC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8D21-A7BB-4480-A4E4-CE7F5808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BB131-047B-461A-B211-5C9A654C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9D180-40AC-4A45-8B12-C2C66B18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6F2D9-7F28-492A-99D2-0E586AA9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793C8-B139-48CA-9871-25D41A02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1A682-A12C-4076-B35E-DFDE3C8B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6BA8C-D87F-47E6-9DD4-A9CCF63E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A1659-A256-4222-90F4-9BFA8863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825BA-E068-4781-A8E5-1A16333B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EC5D5-4850-47DA-AB07-1D7F8B30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4F374-C98F-4892-B3D5-925AB80A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EC4B-A6CA-4407-A077-EFA4A46B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CEBB1-7E33-4155-A79B-1F22CE48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D2ABB-9ACB-4CFD-88CB-61455121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0691C-F0EA-4D2C-852B-990AB8BF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A191C-87BD-44D8-A098-2030D284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0CAE0-0133-44EE-878D-91DFA0A3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17A28-09B1-4F2C-8465-A21780A6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2B8D4-C94D-48E7-A137-E8641CF5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DC631-82E1-4721-B3F5-E6CF419B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5BAD8-37FA-42CF-AF8E-0CB1774C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8D654-CA7B-4E5E-8BFC-0CDFCF19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91E-08DF-400E-9DA1-F0568904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9208B-F94C-4D92-8D60-769A5B44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83118-030B-4D5D-9485-24906574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EF684-3B0D-4A33-AC2D-6504BCCE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0D523-4672-4A58-AAFC-65C39F4E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3FC10-938A-4DE3-9A25-2FC8CFCF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EE7BE-380D-445A-9F4A-8866EBE1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5ABC6-1512-42DC-B792-964FDED7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9259A-0F89-4EBE-B162-1C60E624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96D04-EA3B-4C17-859C-09BB9A5C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58314-1843-44E7-ABC4-9E71460C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A44F-FF32-49F7-AAC5-6509D9E8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D67C4-29EB-4392-8C1F-69338D8A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B046F-5588-49F1-852C-FF6DBB3C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59499-110F-4FC9-9A93-EEC31EC1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BED2A-266A-453E-96A4-B1BA85F9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475EA-6A47-45EB-921E-EBB48738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9AB01-7D51-4C6F-9BC8-F72B3984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8E41C-FDDA-4611-9F8F-C8DD5D36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CB9DF-9E89-4A8F-8666-4FEEF2A8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DE0DE-A809-4B2A-B33F-E6E72431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E7AAE-CB32-4847-B4C5-6071899A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607-F411-4601-8310-BF4AAD76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17594-2E22-4D5A-AF7F-786949C4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16331-C22D-4ACA-922A-33EE51DD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548F8-DAE0-45C6-936A-7137C353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FA3F4-A614-43EE-A901-3BF6F517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05D57-C404-485C-A727-8DCDC8FC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651BB-B833-40DC-BBB6-5A0ECC78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10802-C882-454E-B8C9-826131AF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1FCF2-9FB7-4618-90A6-771A4714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1B273-7857-4BC6-8175-BB27A0FA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D6A62-1370-44A5-94D7-D708641E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BA9-D1A0-422C-8E93-A30201FA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0349D-B260-4AD7-B06D-2627808B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DCFDE-6721-46BF-AEBE-6021DF30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8D7C0-4A99-4F03-B338-83926B37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53629-1A48-43A0-B56A-6F819CAD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73AA0-E821-4C1C-8E41-981D90A9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0F0BF-0A7B-46CF-A6EB-E15B3A60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A581E-85E6-455E-BABD-70E4AED5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F9ADD-1C91-4A2E-956E-FD54190C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51384-4DE4-4DCA-BCA2-EEE68FC2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A937C-B38D-435E-8DFB-3824876D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3C1C-E92F-459A-9051-933E68951A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1E47-54F2-4D66-A0A1-22F9D85115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AA08-8F5F-4BE8-B60E-4C4BB33188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9585-FFBD-4940-B9AD-214F824625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0B2E-8017-4890-9FDB-3C6E6D5888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0342-51A7-416D-8D5A-86CE460225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DDB6-9DFB-44E0-BBC5-CA656B1001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C82D-9AAC-43FA-81F2-311F4ABB22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84A3-BB72-45A5-BCF4-07BD288F4C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7F44-510B-4BF6-84B6-D5C251DB3A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A3DE-5886-4091-8F5D-51B4087C17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3B7B-A163-4D2B-9FFE-139F3D04AF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6790-BE0B-4B62-A303-636CFF4C33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40A6-9116-44E8-9D2B-6119CB4108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41AA-539B-4530-9520-495402E637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FBE3-C39B-41FF-9C03-BD6600C983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3F54-645E-4C89-81D9-C389B9F02B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6405-BCF0-4215-AA9D-765DE9546A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ADAD-7E9C-4909-8477-4B6ECB3FCD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D959-7324-424A-AEE4-8CA3521F4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1906-0949-4506-B476-6D8FEB74B2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8B76-6C40-4933-A18D-2F589820DC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1D08-866B-48EA-AE0A-441A1CEC3C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FC44-CBF0-459E-8D71-90DA55BA01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2A36-DBEE-4B2A-88D8-3E539C985F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FBFC-B1C3-42E6-B320-061DD6561D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16B2-BC8B-4B24-8173-566A31E137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9E03-51F2-4C7E-BA11-600A902958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385E-E007-44EE-B576-65B3B1176D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AEB7-3EDA-42EF-934D-67E85762B7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CD59-F724-40AA-8FAB-7BE0A08D8C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BB60-1829-49CE-8A50-3F2A83F7FC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B3F8-C5B1-4A0E-ACF5-6320B8133C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AD13-8550-437E-A066-C0756D786A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8A02-F0CD-4935-A0DE-152F12C1BE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422F-1742-4506-9E7A-2895C30151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C835-4ADD-47CA-A352-2CD7D8A781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5FA6-2357-4D76-B3A0-CD46AC086E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7353-F5FC-4789-9954-50D113B164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DD0C-E151-4FCA-80BC-4DB81CEDF2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480" y="2324160"/>
            <a:ext cx="9077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69633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8715600" cy="120024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69634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7201080" cy="20098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4716360" y="19890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7064280" y="1989000"/>
            <a:ext cx="82080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4702320" y="2608200"/>
            <a:ext cx="59040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7394400" y="2637000"/>
            <a:ext cx="993960" cy="447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7"/>
          <a:stretch/>
        </p:blipFill>
        <p:spPr>
          <a:xfrm>
            <a:off x="2268360" y="422100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8"/>
          <a:stretch/>
        </p:blipFill>
        <p:spPr>
          <a:xfrm>
            <a:off x="4802040" y="422100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9"/>
          <a:stretch/>
        </p:blipFill>
        <p:spPr>
          <a:xfrm>
            <a:off x="7913520" y="4221000"/>
            <a:ext cx="1051200" cy="447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0"/>
          <a:stretch/>
        </p:blipFill>
        <p:spPr>
          <a:xfrm>
            <a:off x="2109960" y="489744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1"/>
          <a:stretch/>
        </p:blipFill>
        <p:spPr>
          <a:xfrm>
            <a:off x="4643280" y="4911840"/>
            <a:ext cx="719280" cy="4474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2"/>
          <a:stretch/>
        </p:blipFill>
        <p:spPr>
          <a:xfrm>
            <a:off x="7740720" y="4911840"/>
            <a:ext cx="934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554040"/>
            <a:ext cx="8601120" cy="6114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219640" y="151272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020000" y="1512720"/>
            <a:ext cx="143964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164360" y="230508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219640" y="311292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948360" y="308304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292720" y="4653000"/>
            <a:ext cx="360036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403280" y="5416560"/>
            <a:ext cx="144000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364000" y="5445000"/>
            <a:ext cx="360072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258920" y="6194520"/>
            <a:ext cx="352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571680" y="1162080"/>
            <a:ext cx="8001000" cy="4533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6443640" y="12254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3276720" y="20034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7236000" y="20034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4067280" y="27957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3635280" y="35877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2050920" y="508464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8"/>
          <a:stretch/>
        </p:blipFill>
        <p:spPr>
          <a:xfrm>
            <a:off x="3995640" y="509904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8373" descr=""/>
          <p:cNvPicPr/>
          <p:nvPr/>
        </p:nvPicPr>
        <p:blipFill>
          <a:blip r:embed="rId1"/>
          <a:stretch/>
        </p:blipFill>
        <p:spPr>
          <a:xfrm>
            <a:off x="314280" y="847800"/>
            <a:ext cx="8515440" cy="5162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187280" y="427824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1187280" y="504180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5364000" y="427824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5364000" y="5041800"/>
            <a:ext cx="31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7352" descr=""/>
          <p:cNvPicPr/>
          <p:nvPr/>
        </p:nvPicPr>
        <p:blipFill>
          <a:blip r:embed="rId1"/>
          <a:stretch/>
        </p:blipFill>
        <p:spPr>
          <a:xfrm>
            <a:off x="533520" y="2071800"/>
            <a:ext cx="8076960" cy="2714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914400" y="352908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5076720" y="2895480"/>
            <a:ext cx="31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6324" descr=""/>
          <p:cNvPicPr/>
          <p:nvPr/>
        </p:nvPicPr>
        <p:blipFill>
          <a:blip r:embed="rId1"/>
          <a:stretch/>
        </p:blipFill>
        <p:spPr>
          <a:xfrm>
            <a:off x="304920" y="1285920"/>
            <a:ext cx="8534160" cy="42861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667640" y="2060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7667640" y="269388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7667640" y="3860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7667640" y="44370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7669080" y="5070600"/>
            <a:ext cx="64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5300" descr=""/>
          <p:cNvPicPr/>
          <p:nvPr/>
        </p:nvPicPr>
        <p:blipFill>
          <a:blip r:embed="rId1"/>
          <a:stretch/>
        </p:blipFill>
        <p:spPr>
          <a:xfrm>
            <a:off x="271440" y="914400"/>
            <a:ext cx="8601120" cy="50292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3233880" y="3213000"/>
            <a:ext cx="431640" cy="3351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5883120" y="3213000"/>
            <a:ext cx="432000" cy="3351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3276720" y="5416560"/>
            <a:ext cx="431640" cy="3348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6056280" y="5430960"/>
            <a:ext cx="43200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4276" descr=""/>
          <p:cNvPicPr/>
          <p:nvPr/>
        </p:nvPicPr>
        <p:blipFill>
          <a:blip r:embed="rId1"/>
          <a:stretch/>
        </p:blipFill>
        <p:spPr>
          <a:xfrm>
            <a:off x="738360" y="2381400"/>
            <a:ext cx="7667280" cy="20952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503280" cy="390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5781600" y="3933720"/>
            <a:ext cx="5032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2231" descr=""/>
          <p:cNvPicPr/>
          <p:nvPr/>
        </p:nvPicPr>
        <p:blipFill>
          <a:blip r:embed="rId1"/>
          <a:stretch/>
        </p:blipFill>
        <p:spPr>
          <a:xfrm>
            <a:off x="262080" y="787320"/>
            <a:ext cx="8619840" cy="58676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900000" y="6221520"/>
            <a:ext cx="4535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09:2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